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934-2428-4386-BAB6-6C7219B8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9B0-B24C-412F-8E84-088BEC54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560-7D21-4E0A-A8C2-FB460A4C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1D0-3332-4D74-8164-816B7E55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A60-0BDD-4B90-809B-A70198A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9FF-2B4D-4844-A53F-78D38A8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B57-DE40-40EA-B146-09199BE6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BC7-DD41-4009-A6E8-C99E3A8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294-8061-4DBC-A71D-4A6AFA5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42F-CB1E-4258-AF31-F6EC039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448-0D47-4B8E-B0D0-0D4EAD1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D7-F933-4D16-B39E-5333625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455-5099-4F33-944A-C4ABAB26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3970hxweEnbIfO_th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0"/>
            <a:ext cx="5105520" cy="9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ركوا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جميع عبيد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واقفين في بيت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إرفعوا أيديكم إلى القد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اركوا الرب، باركوا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ليباركك الرب من صهي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نع السموات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11:42Z</dcterms:modified>
  <cp:revision>3</cp:revision>
  <dc:subject/>
  <dc:title>PowerPoint Presentation</dc:title>
</cp:coreProperties>
</file>